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816-64E0-4698-A3CC-33C6CD02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03A-9716-43E0-BAFD-26D32C7F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BEA-BD57-4208-8D74-32A82B8E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9B1-C6CE-4AC6-9486-C2297A2C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0C7-4732-4E7A-8AEF-8D9FF97E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8C23-4F97-4773-BB62-0D4761BD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1686-5D3C-4F46-8E4C-F2C77BAB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CAD0-4871-498F-8A16-47EB537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A8ED-1A5A-4881-8749-D39713EF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113C-43F6-4D6E-B5EB-733262ED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79CB-C192-4484-A3EA-73227D0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7A9-C1E7-4903-B5DC-28B25389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F001-CD4E-46AF-9490-A1E81685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63BA-F8C3-4024-B38A-68B9D8E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B0B2-A7B2-4A36-B806-05D336F9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E911-47E1-47BC-9194-12E96BBA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66A6-D5E9-49F0-8805-F7B048A5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1945-793D-40C6-99BA-D5FF10E1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D27E-E6A9-4C34-BF36-F363DB74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31CE-2F24-47AF-AD40-24B03854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7C53-03BD-4253-9F31-04A5A53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DF0E-5B79-4B2B-8D05-81ACA2BC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308-EBF9-469B-A2EB-4E5F73D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61E80-1803-44F8-8730-8D89B658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9992-F033-43D3-BB14-D90FAE0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724B-B68A-41EC-80CB-907A5985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FE010-2EE3-4DF9-9FE6-257DA52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6EAF-CA41-445E-9583-38859B76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818ED-B635-4266-98CE-EC547780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BE2B-9FF2-4E67-9F02-7937B90B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D376B-15C7-44E2-9A08-88E62452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899F-7300-4BB4-8938-E634AD3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53F05-2680-4146-B889-E6A4B311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196-42FF-40EF-B783-4C13BE7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A308-75BC-4A9E-8E81-523B46E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3CC9-C61F-42BF-8CCE-06715840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23DD-1DFA-4F34-857E-3171E6E9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9E96-D880-4F7F-84E8-01BF3E2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20732-C7CB-4786-B4B9-4E601956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87DF-368D-4138-8711-271AE7A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5AF3F-B66F-4FDD-A5EF-937A24CC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262A-2FBF-4411-A32C-BB5DF1B9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CAF3-5E50-4E30-B689-E1F11716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85F-2E29-4354-8564-A638CE70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6EA-D1E4-4648-BD4E-64F9DF0A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5EB-60A5-4889-BC70-C544131D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954-C5E5-4CB0-8242-DC4D9F2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0B8-8EFE-4120-A153-833D613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BDF4-D1EF-41E3-AE54-2F0630A7D5A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D3F2-954B-4313-A6E7-99550611A74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9B27-51E9-46DE-BE7D-3377016FF71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E23B-4CEB-4577-8707-52A76DF624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ermutation program to check first if the given number if greater than zero. You should print error message otherwi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return value in case of error messag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447920" y="1371600"/>
            <a:ext cx="6629400" cy="3933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 perm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&lt;=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"Erro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in range (1,x+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=result*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5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four numbers and returns the maximum of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80880" y="3124080"/>
            <a:ext cx="4572000" cy="30186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myMax(x,y,z,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 in (y, z, w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n&gt;ma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=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19920" y="3048120"/>
          <a:ext cx="2133360" cy="36576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x=x=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y=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y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max =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z=2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No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do n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=w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 n&gt;max? y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max =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Box 8"/>
          <p:cNvSpPr/>
          <p:nvPr/>
        </p:nvSpPr>
        <p:spPr>
          <a:xfrm>
            <a:off x="5800680" y="2362320"/>
            <a:ext cx="19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Max(3,6,2,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3 y=6 z=2 w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accepts 3 numbers and returns the minimum of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program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9,5,2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3,4,10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in(2,-4,8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: Parameter Passin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ass a parameter to a function, define it as a variable in the function declaration e.g. def square(length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run time, call the function with the value of this parameter e.g. square(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intNameID(name,ID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na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command window wri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NameID(“John”,122898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: return valu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function may return a value using return command, e.g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6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u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, you should return only one val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function returns a value, you can use it in assig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   F=mySum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you have defined a variable F that will holds the value that the function mySum() retur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1676520"/>
            <a:ext cx="4572000" cy="4726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mySum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x in (1,2,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mand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Su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=mySu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previous function to return the summation of numbers in a range starting from x to y, where x and y are parameters passed to your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function with mySum(1,3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answer should be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range is required to be inclusive, your range should be (x,y+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f the range is required to be exclusive, your range should be (x+1,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ault is inclu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600200" y="12193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 mySum(x,y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no in </a:t>
            </a:r>
            <a:r>
              <a:rPr b="0" lang="en-US" sz="3600" spc="-1" strike="noStrike">
                <a:solidFill>
                  <a:srgbClr val="009dd9"/>
                </a:solidFill>
                <a:latin typeface="Arial"/>
              </a:rPr>
              <a:t>rang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600" spc="-1" strike="noStrike">
                <a:solidFill>
                  <a:srgbClr val="009dd9"/>
                </a:solidFill>
                <a:latin typeface="Arial"/>
              </a:rPr>
              <a:t>,y+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=sum+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urn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1329840" y="4724280"/>
            <a:ext cx="61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you can’t have two variables with the sam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returns the multiplication of numbers in range starting from x to 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your function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ul(2,3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3=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Mul(2,6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*3*4*5*6=7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838080" y="1752480"/>
            <a:ext cx="6096240" cy="2044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myMul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f6fc6"/>
                </a:solidFill>
                <a:latin typeface="Arial"/>
              </a:rPr>
              <a:t>mul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in range (x,y+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=mul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990720" y="2209680"/>
            <a:ext cx="1523880" cy="533520"/>
          </a:xfrm>
          <a:prstGeom prst="ellipse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8"/>
          <p:cNvCxnSpPr/>
          <p:nvPr/>
        </p:nvCxnSpPr>
        <p:spPr>
          <a:xfrm flipH="1">
            <a:off x="2437560" y="1370520"/>
            <a:ext cx="1753560" cy="1143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TextBox 9"/>
          <p:cNvSpPr/>
          <p:nvPr/>
        </p:nvSpPr>
        <p:spPr>
          <a:xfrm>
            <a:off x="4124520" y="990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 returns the Permutations of a given number, where the permutation of x is calculated as 1*2*…*x. For example, the permutation of 6 is calculated as 1*2*3*4*5*6=720 and the permutation of 7 is calculated as 1*2*3*4*5*6*7=504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the range of your loop from 1 to th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ultipli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value should you initialize the permutation with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3/1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Information Technologies</cp:lastModifiedBy>
  <dcterms:modified xsi:type="dcterms:W3CDTF">2009-03-18T19:42:33Z</dcterms:modified>
  <cp:revision>218</cp:revision>
  <dc:subject/>
  <dc:title>CPSC 203</dc:title>
</cp:coreProperties>
</file>